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FA2D-128B-4823-88FA-50B34B667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9B50-2699-4CCB-A8F7-FF1D8A23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3C8B-6ABC-4E85-AA1D-EB7D3238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97D7-643A-4214-AABB-1EF307D1D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1DFC-10EE-4B64-AB10-78293D300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1ED0-A7F8-4EFB-A165-043550A3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63B6-1C7E-4792-BEB7-2300145D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8329-2D74-46DC-B910-FCE85FE2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E171-943D-4FD4-AE8B-96DA1B60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0644-F5B4-4459-B256-FDE7A02E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52B8-C29A-48CF-983F-D906E7B0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6D4A-1EC0-47D1-9D50-028FD5FB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DAD2-DB07-40E4-9E10-5081C9BA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7C5A-E6A7-4832-9739-E58A13D8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E2BF-C122-4379-A02B-C64B647B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C05D-2C12-490B-8F3A-C293E21B8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438F-7FC8-401F-B929-DA57912A5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8B6F-AE42-48EC-A5DA-72E2F494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98C8-944A-4130-A6F2-45150334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66DA-515F-4C07-82F7-48F0301F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523D-BC8A-4F73-AF55-5F68571D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4A66-0EC2-481E-B29F-672D4A5B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12D1-572B-4D1C-A5E7-35924E9F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A400-0831-4618-A9DE-B1B58940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4e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4ec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4ec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4e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4ec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BE9B-ECC5-4243-A6F6-0C1EF5FF135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4e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4ec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4ec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4e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4ec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2CD9-D967-4D65-8678-497B12A6F6F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4ec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8f4ec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8f4ec"/>
              </a:buClr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4ec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8f4ec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4ec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8f4ec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4ec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8f4ec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4ec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8f4ec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4ec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8f4ec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4ec"/>
                </a:solidFill>
                <a:latin typeface="Verdana"/>
              </a:rPr>
              <a:t>George Pullman and the Pullman Strike</a:t>
            </a: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Phil and Eric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4ec"/>
                </a:solidFill>
                <a:latin typeface="Verdana"/>
              </a:rPr>
              <a:t>Background</a:t>
            </a: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Born in Brocton, New York.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Dropped out of school at age fourteen.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Joined family business as cabinet maker at age seventeen. 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Worked as building mover through early adult life. 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69608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4ec"/>
                </a:solidFill>
                <a:latin typeface="Verdana"/>
              </a:rPr>
              <a:t>Accomplishments</a:t>
            </a: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4ec"/>
                </a:solidFill>
                <a:latin typeface="Verdana"/>
              </a:rPr>
              <a:t>Was systematically able to move buildings while business was being held. </a:t>
            </a:r>
            <a:endParaRPr b="0" lang="en-US" sz="2800" spc="-1" strike="noStrike">
              <a:solidFill>
                <a:srgbClr val="f8f4ec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4ec"/>
                </a:solidFill>
                <a:latin typeface="Verdana"/>
              </a:rPr>
              <a:t>Was a train car pioneer and a pioneer for searching for utopian society</a:t>
            </a:r>
            <a:endParaRPr b="0" lang="en-US" sz="2800" spc="-1" strike="noStrike">
              <a:solidFill>
                <a:srgbClr val="f8f4ec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4ec"/>
                </a:solidFill>
                <a:latin typeface="Verdana"/>
              </a:rPr>
              <a:t>Left with his fathers business, he turned it into a multi-million dollar train car corporation. </a:t>
            </a:r>
            <a:endParaRPr b="0" lang="en-US" sz="2800" spc="-1" strike="noStrike">
              <a:solidFill>
                <a:srgbClr val="f8f4e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36360"/>
            <a:ext cx="8331120" cy="68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4ec"/>
                </a:solidFill>
                <a:latin typeface="Verdana"/>
              </a:rPr>
              <a:t>Pullman City</a:t>
            </a: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George Pullman designed an entire city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Outside of Chicago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Hailed as the first modern city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No taverns, pubs,bars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4ec"/>
                </a:solidFill>
                <a:latin typeface="Verdana"/>
              </a:rPr>
              <a:t>Pullman Strike</a:t>
            </a: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4ec"/>
                </a:solidFill>
                <a:latin typeface="Verdana"/>
              </a:rPr>
              <a:t>Wages were cut by thirty percent.</a:t>
            </a:r>
            <a:endParaRPr b="0" lang="en-US" sz="2800" spc="-1" strike="noStrike">
              <a:solidFill>
                <a:srgbClr val="f8f4ec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4ec"/>
                </a:solidFill>
                <a:latin typeface="Verdana"/>
              </a:rPr>
              <a:t>Rent stayed the leaving workers with very little money to pay for basic needs. </a:t>
            </a:r>
            <a:endParaRPr b="0" lang="en-US" sz="2800" spc="-1" strike="noStrike">
              <a:solidFill>
                <a:srgbClr val="f8f4ec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4ec"/>
                </a:solidFill>
                <a:latin typeface="Verdana"/>
              </a:rPr>
              <a:t>Porters were lowest paid, harassed, and expected to pay for business equipment. </a:t>
            </a:r>
            <a:endParaRPr b="0" lang="en-US" sz="2800" spc="-1" strike="noStrike">
              <a:solidFill>
                <a:srgbClr val="f8f4ec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4ec"/>
                </a:solidFill>
                <a:latin typeface="Verdana"/>
              </a:rPr>
              <a:t>Strike went from May 12th to July 31st, 1894.</a:t>
            </a:r>
            <a:endParaRPr b="0" lang="en-US" sz="2800" spc="-1" strike="noStrike">
              <a:solidFill>
                <a:srgbClr val="f8f4e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4ec"/>
                </a:solidFill>
                <a:latin typeface="Verdana"/>
              </a:rPr>
              <a:t>Infamy</a:t>
            </a: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Pullman passed on October 19th, 1897.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His reputation was poor because of the strike and the consequent presidential investigation.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Refused to negotiate with Union and created hardships. 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4:37:43Z</dcterms:created>
  <dc:creator>Yarmouth Schools</dc:creator>
  <dc:description/>
  <dc:language>en-US</dc:language>
  <cp:lastModifiedBy>YHS Teacher</cp:lastModifiedBy>
  <dcterms:modified xsi:type="dcterms:W3CDTF">2009-03-23T14:21:21Z</dcterms:modified>
  <cp:revision>5</cp:revision>
  <dc:subject/>
  <dc:title>George Pullman and the Pullman Strike</dc:title>
</cp:coreProperties>
</file>